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8FD1-7B90-45D4-BB28-ACEF2D65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9C62-7251-4C9B-A2C0-9054F6E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FA0D-869F-48EB-BAEC-01A26238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F6AD-4FB1-4FD9-B67D-F9739AB4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5352-C3D8-4520-B7F6-550BF9C0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3BF-A7BA-4787-B35B-3067F58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B6A-A30A-4CB7-9C49-16B547E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51A-F3E4-4306-89B6-BEAE6D91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D789-E922-4581-A2C7-7B6D95F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01F4-D34D-4B6D-AC55-53F59051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AAE6-7C7A-4D6C-B88C-FF0C50FD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09837-A986-4BC3-B51A-1F8D0AE9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AD9-D0AD-44C7-9E76-85BFFE3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F59-DDD2-4E4D-AFB8-436BEF2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BCC-818B-4203-A327-8D35C8A1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FCA4-3205-4A8E-BAD3-E637E700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CB56-43B4-4ECD-BC65-F9026F81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4A17-5884-410E-A74B-4FF2FC87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00E7-D99C-4EFB-A23B-BDDB289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254D-8366-4F67-A099-9D6838F6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62ED-D744-4E39-B688-7A35AEB9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5DBD-3FB4-4ED0-9CB1-A28AF03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23ED-1D3A-4914-B3DA-A988E787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6F11-B26E-4C45-8283-E52D0B88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5DD9-4C72-4CFF-BDC4-364791D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952F-3E5D-418E-BB93-D9D12BCD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08FC-104C-4AAB-A4E9-97F78066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DFA7E-43F4-4C39-BEC1-D5FD0D5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271F-563D-473C-93DC-54A5C189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8150-9BA7-4066-A470-6B929D1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B3DD7-28C0-468C-A544-C18AD4A8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87364-A9DB-43B5-95FD-64DA3014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07717-4889-420B-97BC-475EECBF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86C8-1DE2-436D-8198-791EE16F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9C4F7-FC4F-4050-B749-92D2CD1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4056A-5E45-4DFF-A3CA-AF3969B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E20B1-D830-467F-B78A-73CC3C7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C7475-FCFC-49BC-9C80-27A9553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6B106-5E01-4C64-952A-948FC05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4FA90-DCF7-48BA-84D0-4C892C7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C5BDF-0832-43F9-A3FD-0BA5298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2C026-CCE9-44BA-85A4-AAA552E1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2094D-EE4E-49E2-821E-00BFAF53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8BB1-693C-4678-8027-18BB60D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F798-377C-4ABF-96AB-B8D6CCA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4E11-345B-4F7B-A60B-90D576D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1500-9DAF-46C1-ACC1-B5A6A50D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20CE-073E-4141-9961-6A961F0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4202-30AF-4719-A0D0-DAF934DD91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CDA2-3EA7-4441-8CEC-BB8C33FD17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D5E-A83F-4279-A735-3E260C66E3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299-BACF-4488-B908-1D3939A56F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cc"/>
                </a:solidFill>
                <a:latin typeface="Arial Black"/>
              </a:rPr>
              <a:t>La Ropa De Aleah Wils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Fashion Show es lleno de zapatos y ropa de todos temor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657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l verarn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52320" y="373392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jandra lleva una vestido rojo, una pulsera, y la muchacha es muy bonita y mor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24160" cy="2600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762280" cy="3524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715000" y="2133720"/>
            <a:ext cx="1371600" cy="1218960"/>
          </a:xfrm>
          <a:custGeom>
            <a:avLst/>
            <a:gdLst>
              <a:gd name="textAreaLeft" fmla="*/ 322200 w 1371600"/>
              <a:gd name="textAreaRight" fmla="*/ 1048320 w 1371600"/>
              <a:gd name="textAreaTop" fmla="*/ 143280 h 1218960"/>
              <a:gd name="textAreaBottom" fmla="*/ 764640 h 121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33520"/>
            <a:ext cx="1295280" cy="1218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0000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l invier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1898640" cy="292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581280" y="15238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205740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05740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17524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garita lleva una gorra blanca, bufanda gris, y un sue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5:11Z</dcterms:created>
  <dc:creator>wilsonaleah</dc:creator>
  <dc:description/>
  <dc:language>en-US</dc:language>
  <cp:lastModifiedBy>wilsonaleah</cp:lastModifiedBy>
  <dcterms:modified xsi:type="dcterms:W3CDTF">2011-12-14T17:01:41Z</dcterms:modified>
  <cp:revision>6</cp:revision>
  <dc:subject/>
  <dc:title>La Ropa De Aleah Wilson</dc:title>
</cp:coreProperties>
</file>